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0198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0C5-AAA8-448E-9FFF-550006D3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458A-A9E4-4440-8BAB-C24BA716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0739-AEEE-46AA-86A9-7E36C9AFE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848-DBAA-4630-BFB5-7AD43BBD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ECE9-F25A-4ECE-969E-A9968AD92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5E05-8C0A-4000-A39F-1629436C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F91C-6F68-4DC7-A903-03D865B41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5ACA2-2B37-4147-8A5C-68AFBFF0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67DB-BB52-4F22-BB85-1ADFEDD5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B25A-8C12-429E-914B-6E0BEBFA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4B71-8C0F-43C5-A44D-94BEBF3D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1583-C86C-4689-9CB3-46E78AD9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9980-F0F4-4EF6-817A-4CCEFFB1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01C6-FBB0-4762-9701-AFD0B1A5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6C14-A729-4FC5-A50F-6F582C1B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E8B2-F3C9-4298-A6F0-01B5A0A3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B3C1-13B9-4676-9D90-55051B090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85B7-FF04-413F-B373-CE97F4A2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8E8-91F2-4CC1-88A1-9DDEFDBD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5EFD-F471-4520-96C0-15FA2B6DB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1DA-B97C-483D-9256-B4BEB795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30EB-BC01-421F-B257-EB891114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2B7F-0FD2-4153-84B3-0ED20515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3EB-041B-44B5-A78F-BC7C5A65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A95D-47BD-4ABF-B0F8-7FD6E45F4D3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98E6-2364-4968-861F-0D5650F22C1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3640" y="155700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0066"/>
                </a:solidFill>
                <a:latin typeface="Arial"/>
              </a:rPr>
              <a:t>Lesson 29</a:t>
            </a:r>
            <a:endParaRPr b="1" lang="en-US" sz="9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268000" y="3429000"/>
            <a:ext cx="4240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ialogu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11280" y="61452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You don’t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keep your wor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13352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) keep one's word/promise  v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守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hold  one's 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28720" y="26305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) break one's word  /promi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8720" y="34956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) eat one's wo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4370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eigh one's words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斟酌词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53020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waste one's words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费口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41904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wor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short; in summary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简而言之；概括地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word, the situation is seriou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总而言之，形势很严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27162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) in other words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换句话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3429000"/>
            <a:ext cx="77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ve words wit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争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争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400536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9) have a word with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某人谈一两句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某人谈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9440" y="5157720"/>
            <a:ext cx="802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word spoken is past recall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640" y="587700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一言既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驷马难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304920"/>
            <a:ext cx="7056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3. Anyhow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I’ll see you next wee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在句首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7280" y="1736640"/>
            <a:ext cx="87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如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管怎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 any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 It may rain, but anyhow I shall go out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可能要下雨，但无论如何我要出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346536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Anyhow I must finish this job today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无论如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今天要完成这件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61000"/>
            <a:ext cx="86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Nevertheless: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尽管如此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51484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t sounds crazy, but I believe it anyhow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它听起来像疯话，然而我相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50920" y="836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apologiz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 make excuse for or regretful acknowledgment of a fault or offens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道歉，认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26028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pologiz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for being so angry with yo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2637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apologized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er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stepping on her foot.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因踩了她的脚而向她道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3789360"/>
            <a:ext cx="7705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for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为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做了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pologize to sb. for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某人为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做了某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10666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nt to do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; intend: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意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打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5640" y="30492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idn’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mean to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 so ru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80880" y="198108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 I meant to go running this morning, but I overslep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429000"/>
            <a:ext cx="838188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was meant for [to be] a doct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本来是准备把他培养成为医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didn’t mean to hurt you; I just wanted to tell you 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6018120"/>
            <a:ext cx="8381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 means working h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50920" y="7650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ashamed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eling shame or guilt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羞愧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感到害臊或有罪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89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feel rather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ha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84464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) Are you ashamed for having l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撒了谎感到害臊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97180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behaved badly yesterday and I am ashamed (of myself)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我昨天表现不好，我现在感到很惭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46483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There’s no ne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for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518148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re is no need to do s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867280"/>
            <a:ext cx="8610480" cy="19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have plenty of time. There's no need to hurr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's no need for a guide on our journey.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04920"/>
            <a:ext cx="83059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ngry with sb ( for doing sth)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ngry at sth / -ing / wh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981080"/>
            <a:ext cx="91440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什么也没做， 为此 他很生我的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angry with me for not having done any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 angry at his id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angry at what I said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but = except, but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后常用代词宾格，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prep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除去，除开，常与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nobody , nothing ,   no one </a:t>
            </a:r>
            <a:r>
              <a:rPr b="0" lang="zh-CN" sz="3200" spc="-1" strike="noStrike">
                <a:solidFill>
                  <a:srgbClr val="1105fb"/>
                </a:solidFill>
                <a:latin typeface="Times New Roman"/>
              </a:rPr>
              <a:t>连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 one can do it but him / him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5335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</a:rPr>
              <a:t>3.I‘ve been looking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..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是现在完成进行时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构成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have (has) + been + -ing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 have been learning English for more than five year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00"/>
                </a:solidFill>
                <a:latin typeface="Arial"/>
              </a:rPr>
              <a:t>look forward to sth./doing sth</a:t>
            </a:r>
            <a:r>
              <a:rPr b="1" lang="zh-CN" sz="30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期待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ff"/>
                </a:solidFill>
                <a:latin typeface="Arial"/>
              </a:rPr>
              <a:t>4.change one‘s mind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mind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常用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单数形式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If one always change one's mind, he succeeds in nothing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1.fix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repair  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Can you fix TV set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agree on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fix +a day, the price, the dat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Let's fix a day. Would Saturday night suit you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ey haven't fixed the date for the interview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You should first fix the ren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fix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的过去分词还可用来作表语或定语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Basic prices are low and fixe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The date fixed for the meeting was June 3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500" spc="-1" strike="noStrike">
                <a:solidFill>
                  <a:srgbClr val="ff3300"/>
                </a:solidFill>
                <a:latin typeface="Arial"/>
              </a:rPr>
              <a:t>fix one's eyes on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使（眼睛、注意力等）盯住，专注于…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She fixed her eyes on the envelop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He fixed his attention on listening to the morning new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5.argue with sb about st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</a:rPr>
              <a:t>quarrel with sb. about sth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He argued with the taxi driver about the fa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304920"/>
            <a:ext cx="8305920" cy="31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ming u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Have you ever had misunderstandings with 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What will you do after you find out that you have misunderstood someb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What will you say to her / h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621240"/>
            <a:ext cx="79250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’m sorry to be so 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apologize for shouting a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Please excuse me for***(do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 didn’t mean to ***(do / b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I’m afraid I was very ru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915840"/>
            <a:ext cx="9677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6200" y="123840"/>
            <a:ext cx="785052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4:  the expressions about  apolog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62064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pologiz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6206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ow to resp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05264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am sorry about sth./ for doing sth./to have done sth./ that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280" y="3141720"/>
            <a:ext cx="39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I apologize (to you) for doing sth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0" y="429264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Excuse me for doing s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00720" y="119700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1.That’s OK/ all righ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56000" y="228276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2. Never mi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3075120"/>
            <a:ext cx="43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3. It’s not importa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394020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4. That’s noth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16400" y="490212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Times New Roman"/>
              </a:rPr>
              <a:t>5. Don’t worry about tha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08000" y="552456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 I didn’t mean to do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-1905120"/>
            <a:ext cx="9144000" cy="967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95280" y="90792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next Frid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907920"/>
            <a:ext cx="20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n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796000" y="90792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8360" y="148428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h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484360" y="1557360"/>
            <a:ext cx="21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an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75280" y="155736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hang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227664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loo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44720" y="234936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consid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45080" y="244008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Tw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5280" y="306864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rg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76720" y="308772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pologiz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43640" y="306864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ng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24000" y="266760"/>
            <a:ext cx="756108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5:  exercises:  W.B. Ex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3933720"/>
            <a:ext cx="51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isundersta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64000" y="400536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sappoint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4724280"/>
            <a:ext cx="28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hou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3800" y="4724280"/>
            <a:ext cx="179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ru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48360" y="4797360"/>
            <a:ext cx="33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asham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5589720"/>
            <a:ext cx="42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ma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87640" y="566100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dinn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380880"/>
            <a:ext cx="8915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 A notice was placed by the thin ice, w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eople to 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keep of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keep 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C. go out     D.  go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2360" y="99072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3124080"/>
            <a:ext cx="8686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 John was made ______ the truck for a week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punish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w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B. wash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was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D. to be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3048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90720" y="3049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1219320"/>
            <a:ext cx="83055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e should do what we can to stop the river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pollu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B. to be pollu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pollu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D. being poll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16765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403848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He has ______ letters to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much                B. a great deal of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masses 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D. the numbe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6880" y="39625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09480" y="457200"/>
            <a:ext cx="8001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Boys and girls are looking forward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ifts for Children’s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being given               B. to giving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for being given              D. to g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5634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4038480"/>
            <a:ext cx="78487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If you can’t find a doctor, a nurse will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d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 b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 fi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4572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066680" y="105084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533520"/>
            <a:ext cx="83055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Most of the water has been poured, and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est ______ in the bott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are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B. were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is lef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is not le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981080" y="12193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3794040"/>
            <a:ext cx="8915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ater will not turn into ice _____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emperature falls below zero degree centigr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i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B wh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C unless          D af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37940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101800" y="62784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e9ce8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066680" y="380880"/>
            <a:ext cx="7086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380880"/>
            <a:ext cx="82296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There is no need ______ us to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, I th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B. fo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C. o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D.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67080" y="30492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3352680"/>
            <a:ext cx="8991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 I don’t mean _____ you, but I must tell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r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o disappoin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B. disappointing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o be disappoint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D. being disappo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32767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719120" y="6278400"/>
            <a:ext cx="101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7e9ce8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8600" y="533520"/>
            <a:ext cx="8915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. -----I apologize for quarrelling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--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ank you.                  B. You’re welc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at’s nothing.            D. Not at 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1219320"/>
            <a:ext cx="1067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916360" y="2565360"/>
            <a:ext cx="315432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GOOD-BYE</a:t>
            </a:r>
            <a:endParaRPr b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3049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How will you answer to an apolo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9480" y="990720"/>
            <a:ext cx="8077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That’s all right.  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That’s not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Never mind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105fb"/>
                </a:solidFill>
                <a:latin typeface="Times New Roman"/>
              </a:rPr>
              <a:t>It’not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6320" y="4368960"/>
            <a:ext cx="9144000" cy="34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e or fal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1Kate and Jane won’t go out together next 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2 Kate is so selfish that she just consider he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)3 It is 14 days later that they meet each other again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" y="497844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561816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2737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320" y="2819520"/>
            <a:ext cx="876276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1: listen to the tape and find out the answer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914400"/>
            <a:ext cx="88394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sten and fill in the blan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fter they______with each other , Kate  couldn’t _______ that Friday,she was going _____ for the weekend. But Jane thought Kate didn’t keep her _____.  She changed her mind ___ ____ _______ . So they had a misunderstanding. A_________ later, Jane  __________ for being so angry with her friend, and  she felt ______  __________ , but she didn’t _____ to be so rude.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1676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2280" y="21337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n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19920" y="2133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124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30481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   last  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3581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t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4038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olog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4572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ther    asha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280" y="5029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91440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1. What were they arguing ab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  They were arguing  if they had fixed  to go out on Fri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2. What did Jane think they would  do next Fr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 Jane thought they would go out for dinner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3. What was Kate going to do next Fri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. Kate was going away for the week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105fb"/>
                </a:solidFill>
                <a:latin typeface="Arial"/>
              </a:rPr>
              <a:t>4. What did  Jane blame Kate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In Jane’s opinion, Kate  didn’t keep her words , and didn’t consider anyone but hersel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75960" y="-4572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0000"/>
                </a:solidFill>
                <a:latin typeface="Arial"/>
              </a:rPr>
              <a:t>Ask and Answer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9372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 When did the 2 girls meet ag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5. A fortnight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 What did Jane do this ti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6. She apologized for being so rude to K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 What was the reason for the argument, according to Ja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7. They might have a misunderstanding ab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1105fb"/>
                </a:solidFill>
                <a:latin typeface="Arial"/>
              </a:rPr>
              <a:t>the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28720" y="396252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 And now I am telling you can’t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manage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this Frida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1.gif (8012 bytes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20080" y="5589720"/>
            <a:ext cx="1089000" cy="1152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684360" y="476280"/>
            <a:ext cx="669600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2: listen to the tape again and read after the ta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2205000"/>
            <a:ext cx="6696000" cy="1191240"/>
          </a:xfrm>
          <a:prstGeom prst="rect">
            <a:avLst/>
          </a:prstGeom>
          <a:solidFill>
            <a:srgbClr val="7e9c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tep 3: dealing with the language poi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24000" y="68580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succeed in accomplishing or achieving, especially with difficulty; contrive or arrang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设法做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努力完成最终达到目的或完成任务的，尤指困难地设法或安排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9640" y="4981680"/>
            <a:ext cx="72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 We finally managed to get there in time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后我们及时赶到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64824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nage to get a promo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设法得到晋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5280" y="333360"/>
            <a:ext cx="777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管理；处理； 支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managed the supermarket when the owner was away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当主人不在的时候，他管理这个超级市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2637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能应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1) The pilot managed to circle the balloon for some time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位飞行员设法绕气球飞了一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5084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 He managed to avoid an accid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设法避免事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07:46:51Z</dcterms:created>
  <dc:creator>罗燕玲</dc:creator>
  <dc:description/>
  <dc:language>en-US</dc:language>
  <cp:lastModifiedBy>w</cp:lastModifiedBy>
  <dcterms:modified xsi:type="dcterms:W3CDTF">2004-10-06T15:31:34Z</dcterms:modified>
  <cp:revision>90</cp:revision>
  <dc:subject/>
  <dc:title>Lesson two</dc:title>
</cp:coreProperties>
</file>